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613490"/>
        <c:axId val="96231696"/>
      </c:barChart>
      <c:catAx>
        <c:axId val="576134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31696"/>
        <c:crosses val="autoZero"/>
        <c:auto val="1"/>
        <c:lblAlgn val="ctr"/>
        <c:lblOffset val="100"/>
        <c:noMultiLvlLbl val="0"/>
      </c:catAx>
      <c:valAx>
        <c:axId val="962316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134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A212-E691-4ED6-A604-1EDE4331F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3557-AB34-4D83-9F81-1D05617D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FC68-F191-4F09-AB25-99ADB6453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D0EB-28A1-42EC-8B65-C76A0EAD4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471F-C967-4BD8-BAE3-508EB9E1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1DDC-F3CB-4CB0-9F8E-6CADA554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5F28-C094-4ADD-80F1-5F6B3385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7C50-A1E6-45F7-AB59-A7ED4601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CAD9-D15B-4594-A6B3-33CEA99E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4C4A-95AB-4C8D-B4DC-F9ED3203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FD14-0269-422B-AB6A-3A17C907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904C-055D-4F2E-904B-832A61B5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59802-5A71-4533-A39F-1942AC32DB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