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73406"/>
        <c:axId val="84941404"/>
      </c:barChart>
      <c:catAx>
        <c:axId val="47273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1404"/>
        <c:crosses val="autoZero"/>
        <c:auto val="1"/>
        <c:lblAlgn val="ctr"/>
        <c:lblOffset val="100"/>
        <c:noMultiLvlLbl val="0"/>
      </c:catAx>
      <c:valAx>
        <c:axId val="84941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3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8BA-DF66-4311-960A-2D652789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64E-F6DD-4A75-B355-2F84DFF0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FC6-BF4A-4403-97F7-C20CF606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10A-BA16-4E3E-BE9C-86D9AD5E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3A1-23E9-4F83-AED0-098E504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48F-C05F-455A-BBD0-D7EAD771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1C3-D7AE-431C-860E-ABDCA5C8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5E3-EA42-48A9-8E46-DF4499E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078-D488-4227-8301-37BE3C5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3E7-B958-4041-8BD1-59B7B07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FE1-2BBB-4D66-84C6-E7DD524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87C-ABB0-4011-A6F0-BADC795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BF5DD-E6BC-4864-AFE4-566D6ED3C7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