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34508"/>
        <c:axId val="41598579"/>
      </c:barChart>
      <c:catAx>
        <c:axId val="98834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8579"/>
        <c:crosses val="autoZero"/>
        <c:auto val="1"/>
        <c:lblAlgn val="ctr"/>
        <c:lblOffset val="100"/>
        <c:noMultiLvlLbl val="0"/>
      </c:catAx>
      <c:valAx>
        <c:axId val="41598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34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D98-8BDF-4AE8-B48D-C290F1CA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84B-B7F9-454A-9787-0050BD5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EEE-C3E7-423B-B439-198A28C9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0A4-E1D1-462A-9809-7FC9FC4A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31B-38E9-4B86-9CAB-CFDCB8D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D76-8BB8-468F-8CC1-6E1FF7A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575-A2BE-4920-8B18-0053CD9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423-4550-4EE9-94F5-BD4F3712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2D8-1075-4C81-AF29-1898463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9DE-F7B8-4DB4-A3A5-455DD6A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BF6-06CD-4C70-A55B-1EF74AB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656-728E-4556-9776-0E5184F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D8FCC-A3A0-470D-8CEB-0D2D0B1B2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