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23738"/>
        <c:axId val="85196827"/>
      </c:barChart>
      <c:catAx>
        <c:axId val="69823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6827"/>
        <c:crosses val="autoZero"/>
        <c:auto val="1"/>
        <c:lblAlgn val="ctr"/>
        <c:lblOffset val="100"/>
        <c:noMultiLvlLbl val="0"/>
      </c:catAx>
      <c:valAx>
        <c:axId val="85196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23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CF9-69AD-4108-8567-08EA1428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A9E-4214-45BF-A106-52B788FB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E61F-83EA-416E-A804-D1862DE6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397-E1F7-4E0A-B6B3-9E4F33B7C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80D-5893-4989-8A7B-C4CC5E1E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9F8-6264-46FF-A701-D41116A4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AF7-C239-4765-9E8F-055A6E6F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A62-6356-42C2-933F-7F2BF8F8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D9F-F495-447E-82A8-91EA5127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0CD-C906-4470-ACC5-3278B606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E9D-4418-468C-9D6C-665B3763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036-80DA-4686-8D7C-372598B8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9B86E-3CA8-45B2-8C1C-926FA1CDB9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