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58017"/>
        <c:axId val="86665746"/>
      </c:barChart>
      <c:catAx>
        <c:axId val="99758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65746"/>
        <c:crosses val="autoZero"/>
        <c:auto val="1"/>
        <c:lblAlgn val="ctr"/>
        <c:lblOffset val="100"/>
        <c:noMultiLvlLbl val="0"/>
      </c:catAx>
      <c:valAx>
        <c:axId val="86665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58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00D-054A-49B2-A9AC-E4183A0F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74D-384E-40D7-8E7D-CF52C282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7FA-D204-4CBE-BB9B-2D62140B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830-E5A7-4776-B10A-25885378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4D6-175B-46AE-98D7-FEF6CF8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AD6-641B-4997-BB93-561280DF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3FF-18DB-4ACD-BE90-E4807267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EFB-B64E-4ED0-A1B0-D27502E1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F27-D5E7-4A95-806F-38A8F4C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B7E-C5DA-44DD-B468-68E383A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44A-0CF7-44A5-9284-030DCCF3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3C8-C84A-4349-9BF4-88808458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D9FA9-D724-464F-8570-C16FE2D2DB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