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969879"/>
        <c:axId val="30515159"/>
      </c:barChart>
      <c:catAx>
        <c:axId val="869698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15159"/>
        <c:crosses val="autoZero"/>
        <c:auto val="1"/>
        <c:lblAlgn val="ctr"/>
        <c:lblOffset val="100"/>
        <c:noMultiLvlLbl val="0"/>
      </c:catAx>
      <c:valAx>
        <c:axId val="305151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698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F0FB-C912-4F96-BFC6-047E0DA2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4581-2F77-4C54-A520-F8E43DA2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E3CC-7A12-4057-BBF7-7E2C8C93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4BF4-A8D4-43E7-8CF9-A153B75BA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DB88-BB28-41DE-8626-7112B20A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6D4E-4DF0-4DB9-8E98-6E1A0163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1D7F-DB56-45BD-AF8C-B6CAE8AA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662D-F825-4AFE-8B1B-D5FB92DB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643D-B7CB-48F3-B5FC-2E8864A6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2B4A-9063-469A-B049-4945E736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1864-CD15-4729-9AC3-2063164F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81ED-CC19-4E4B-9450-BAC218A9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F3CA6-A01A-4E21-AF16-A3B0E92CA3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