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451279"/>
        <c:axId val="31454063"/>
      </c:barChart>
      <c:catAx>
        <c:axId val="474512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54063"/>
        <c:crosses val="autoZero"/>
        <c:auto val="1"/>
        <c:lblAlgn val="ctr"/>
        <c:lblOffset val="100"/>
        <c:noMultiLvlLbl val="0"/>
      </c:catAx>
      <c:valAx>
        <c:axId val="314540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512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D468-86BB-45B4-8017-F1868CFC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7485-6FA9-448B-B963-2E008E0C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DED4-6DA0-419D-AC74-9A368CE5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4EDA-04B3-4D11-BFF6-4B82DE2F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3060-89C9-4CC9-922A-4DD27BDD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4D50-B90F-4E1D-9965-36A9311A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EEF-1E9E-4C47-95C8-F60E8014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27E3-2FB3-4770-A60E-F97E8885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CA9D-68B7-494C-A515-CD855C61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5607-AB7A-4076-88D3-4707FF92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9055-D09B-46A7-9710-9966A066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A8DD-57FD-471E-BD2C-A410D94A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6EB1F-5F00-471A-A5D8-0BF3CECD32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